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whoosh.wav" ContentType="audio/x-wav"/>
  <Override PartName="/ppt/media/image28.png" ContentType="image/pn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25.jpeg" ContentType="image/jpeg"/>
  <Override PartName="/ppt/media/image26.jpeg" ContentType="image/jpeg"/>
  <Override PartName="/ppt/media/image5.png" ContentType="image/png"/>
  <Override PartName="/ppt/media/applause.wav" ContentType="audio/x-wav"/>
  <Override PartName="/ppt/media/camera.wav" ContentType="audio/x-wav"/>
  <Override PartName="/ppt/media/breeze.wav" ContentType="audio/x-wav"/>
  <Override PartName="/ppt/media/image10.png" ContentType="image/png"/>
  <Override PartName="/ppt/media/image8.png" ContentType="image/png"/>
  <Override PartName="/ppt/media/image14.jpeg" ContentType="image/jpeg"/>
  <Override PartName="/ppt/media/chimes.wav" ContentType="audio/x-wav"/>
  <Override PartName="/ppt/media/wind.wav" ContentType="audio/x-wav"/>
  <Override PartName="/ppt/media/image16.png" ContentType="image/png"/>
  <Override PartName="/ppt/media/image27.png" ContentType="image/png"/>
  <Override PartName="/ppt/media/drumroll.wav" ContentType="audio/x-wav"/>
  <Override PartName="/ppt/media/image3.png" ContentType="image/png"/>
  <Override PartName="/ppt/media/image23.jpeg" ContentType="image/jpeg"/>
  <Override PartName="/ppt/media/image1.png" ContentType="image/png"/>
  <Override PartName="/ppt/media/cashreg.wav" ContentType="audio/x-wav"/>
  <Override PartName="/ppt/media/image9.png" ContentType="image/png"/>
  <Override PartName="/ppt/media/image11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B12-05C3-4C61-94F2-B666EFB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066-FF2A-475B-AC2B-C9234823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2A2-21C6-4C1A-ADBC-34EE4EDD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6FD-F026-40F4-8A70-0D67F76F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31D-AA1A-4E4E-A2A4-ED523662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E59-2CC3-439E-8BAF-51F39066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1DF-E516-4F3D-9ED6-A9247BC1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0CB-33F2-414F-9F27-C75C6A22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0E2E-7021-4B76-B33C-80BE5142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A8D-8BC2-4C90-992A-535E4DF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0C8-5D58-42C4-B6AD-DE6386E7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C48-7675-4531-9B7A-1EA5404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DFB-E7AB-4C88-850C-F3449958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image" Target="../media/image26.jpe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2514600" y="0"/>
            <a:ext cx="76453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7000" y="812880"/>
            <a:ext cx="203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ucy 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60" y="380880"/>
            <a:ext cx="855180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0d0d"/>
                </a:solidFill>
                <a:latin typeface="Arial"/>
              </a:rPr>
              <a:t>ABOUT CONVER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6861240" y="266760"/>
            <a:ext cx="2679480" cy="180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76120" y="2179800"/>
            <a:ext cx="66358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 were especially made for basketb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52440" y="3322800"/>
            <a:ext cx="6178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e were introduced in the 1910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28760" y="4465800"/>
            <a:ext cx="6026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ck Taylor started wearing converse in 19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52440" y="5761080"/>
            <a:ext cx="8769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World War 2 Chuck Taylor sneakers became the official sneaker of the US Armed fo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355320"/>
            <a:ext cx="8323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39d"/>
                </a:solidFill>
                <a:latin typeface="Arial"/>
              </a:rPr>
              <a:t>WHO WAS CHUCK TAYLOR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95360" y="1828800"/>
            <a:ext cx="832320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Chuck Taylor was born June 24, 19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was an All Star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retired in 196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3036"/>
                </a:solidFill>
                <a:latin typeface="Arial"/>
              </a:rPr>
              <a:t>He died June 23, 1969 one day before his 68th birth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2" name="breez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355320"/>
            <a:ext cx="832320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39d"/>
                </a:solidFill>
                <a:latin typeface="Arial"/>
              </a:rPr>
              <a:t>CONVERSE…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279360" y="1828800"/>
            <a:ext cx="1316160" cy="128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650960" y="1828800"/>
            <a:ext cx="43117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converse they used in World Wa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03560" y="3352680"/>
            <a:ext cx="53784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older high top conve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52440" y="6324480"/>
            <a:ext cx="232740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2563920" y="6305400"/>
            <a:ext cx="1982520" cy="131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4565520" y="6781680"/>
            <a:ext cx="469296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N CONVERS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352440" y="3352680"/>
            <a:ext cx="1878120" cy="101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6"/>
          <a:stretch/>
        </p:blipFill>
        <p:spPr>
          <a:xfrm>
            <a:off x="428760" y="4495680"/>
            <a:ext cx="1458720" cy="1447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2066760" y="5151600"/>
            <a:ext cx="47307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converse worn in the 8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7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04960" y="4465800"/>
            <a:ext cx="4311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23760" y="426960"/>
            <a:ext cx="84646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39d"/>
                </a:solidFill>
                <a:latin typeface="Arial"/>
              </a:rPr>
              <a:t>FACTS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71480" y="2027160"/>
            <a:ext cx="9353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onverse were not very popular until Chuck Taylor adopted them as his preferred sh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23760" y="3475080"/>
            <a:ext cx="92012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lassic black converse are the most popular but Chuck preferred wh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71480" y="4846680"/>
            <a:ext cx="93535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ustomers demanded more variety from the sh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( Particularly for the shoe to match the basketball teams color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23760" y="6370560"/>
            <a:ext cx="87696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Soon they were made in different fabrics such as leather, suede, vinyl, deni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  <p:sndAc>
      <p:stSnd>
        <p:snd r:embed="rId2" name="whoosh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600" y="45720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39d"/>
                </a:solidFill>
                <a:latin typeface="Arial"/>
              </a:rPr>
              <a:t>FACTS (CONTINUED)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52600" y="1828800"/>
            <a:ext cx="8208720" cy="42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Other styles of the came later such as the low top converse and later the knee high con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Converse were bought by Nike in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Later they made new converse with no laces, held up by ela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c30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036"/>
                </a:solidFill>
                <a:latin typeface="Arial"/>
              </a:rPr>
              <a:t>Many bands adopted the shoe a fashion trend in the 7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wind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600" y="355320"/>
            <a:ext cx="82087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39d"/>
                </a:solidFill>
                <a:latin typeface="Arial"/>
              </a:rPr>
              <a:t>CONVER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899320" y="324000"/>
            <a:ext cx="31939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0" y="2514600"/>
            <a:ext cx="17352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1724040" y="2514600"/>
            <a:ext cx="18129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5"/>
          <a:stretch/>
        </p:blipFill>
        <p:spPr>
          <a:xfrm>
            <a:off x="3554280" y="2438280"/>
            <a:ext cx="145908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6"/>
          <a:stretch/>
        </p:blipFill>
        <p:spPr>
          <a:xfrm>
            <a:off x="5002200" y="2438280"/>
            <a:ext cx="167976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7"/>
          <a:stretch/>
        </p:blipFill>
        <p:spPr>
          <a:xfrm>
            <a:off x="6670800" y="2362320"/>
            <a:ext cx="1612800" cy="142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8"/>
          <a:stretch/>
        </p:blipFill>
        <p:spPr>
          <a:xfrm>
            <a:off x="8424720" y="2438280"/>
            <a:ext cx="1735200" cy="130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9"/>
          <a:stretch/>
        </p:blipFill>
        <p:spPr>
          <a:xfrm>
            <a:off x="0" y="3809880"/>
            <a:ext cx="1582560" cy="1257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10"/>
          <a:stretch/>
        </p:blipFill>
        <p:spPr>
          <a:xfrm>
            <a:off x="1495440" y="3809880"/>
            <a:ext cx="1469880" cy="1238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11"/>
          <a:stretch/>
        </p:blipFill>
        <p:spPr>
          <a:xfrm>
            <a:off x="2944800" y="3809880"/>
            <a:ext cx="123048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12"/>
          <a:stretch/>
        </p:blipFill>
        <p:spPr>
          <a:xfrm>
            <a:off x="4240080" y="3809880"/>
            <a:ext cx="120348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3"/>
          <a:stretch/>
        </p:blipFill>
        <p:spPr>
          <a:xfrm>
            <a:off x="5451480" y="3733920"/>
            <a:ext cx="1306440" cy="12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14"/>
          <a:stretch/>
        </p:blipFill>
        <p:spPr>
          <a:xfrm>
            <a:off x="6746760" y="3809880"/>
            <a:ext cx="1698840" cy="12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"/>
          <p:cNvPicPr/>
          <p:nvPr/>
        </p:nvPicPr>
        <p:blipFill>
          <a:blip r:embed="rId15"/>
          <a:stretch/>
        </p:blipFill>
        <p:spPr>
          <a:xfrm>
            <a:off x="8348760" y="3809880"/>
            <a:ext cx="1811160" cy="1228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"/>
          <p:cNvPicPr/>
          <p:nvPr/>
        </p:nvPicPr>
        <p:blipFill>
          <a:blip r:embed="rId16"/>
          <a:stretch/>
        </p:blipFill>
        <p:spPr>
          <a:xfrm>
            <a:off x="0" y="5181480"/>
            <a:ext cx="1706400" cy="14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"/>
          <p:cNvPicPr/>
          <p:nvPr/>
        </p:nvPicPr>
        <p:blipFill>
          <a:blip r:embed="rId17"/>
          <a:stretch/>
        </p:blipFill>
        <p:spPr>
          <a:xfrm>
            <a:off x="1647720" y="5181480"/>
            <a:ext cx="1917720" cy="144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/>
          <p:cNvPicPr/>
          <p:nvPr/>
        </p:nvPicPr>
        <p:blipFill>
          <a:blip r:embed="rId18"/>
          <a:stretch/>
        </p:blipFill>
        <p:spPr>
          <a:xfrm>
            <a:off x="3554280" y="5105520"/>
            <a:ext cx="160344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1" descr=""/>
          <p:cNvPicPr/>
          <p:nvPr/>
        </p:nvPicPr>
        <p:blipFill>
          <a:blip r:embed="rId19"/>
          <a:stretch/>
        </p:blipFill>
        <p:spPr>
          <a:xfrm>
            <a:off x="5146560" y="5105520"/>
            <a:ext cx="153540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"/>
          <p:cNvPicPr/>
          <p:nvPr/>
        </p:nvPicPr>
        <p:blipFill>
          <a:blip r:embed="rId20"/>
          <a:stretch/>
        </p:blipFill>
        <p:spPr>
          <a:xfrm>
            <a:off x="6594480" y="5086440"/>
            <a:ext cx="2603520" cy="253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1" name="camera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4920" y="6141960"/>
            <a:ext cx="100900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Lucy .P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8208720" cy="690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39d"/>
                </a:solidFill>
                <a:latin typeface="Arial"/>
              </a:rPr>
              <a:t>THANK YOU FOR WATCHING!!!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ttleton Public Schools</cp:lastModifiedBy>
  <dcterms:modified xsi:type="dcterms:W3CDTF">2009-11-20T19:21:19Z</dcterms:modified>
  <cp:revision>7</cp:revision>
  <dc:subject/>
  <dc:title>PowerPoint Presentation</dc:title>
</cp:coreProperties>
</file>